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1A342-55E5-4E4A-8A9F-0D0BB43480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96CA5-79D6-4B0E-A034-1A40E9134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9D61-7DD4-404E-9AC5-94CE1EAA7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6783-B657-4637-AF59-06DE35965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C268-13F5-4477-B824-DA3170028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0ACFD-8113-457E-9DAF-90F463ED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5389-F234-4D22-B14D-BB4B3FFB2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9220-98DA-464B-A0AC-2739A7286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654DC-66E0-4ACB-83C8-F1CC870E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2719-EAA9-45F4-9E31-B007B0DB7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803A-74A7-4D6A-9C39-85567C09A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5AEF9-0301-404D-A871-C35F89F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1D648-531C-41BF-87F3-CB05C7D882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500200" y="5214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ff"/>
                </a:solidFill>
                <a:latin typeface="Calibri"/>
              </a:rPr>
              <a:t>Krejzová Alice, Povolná Martina, Foglová Luci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Obdélník 8" descr=""/>
          <p:cNvPicPr/>
          <p:nvPr/>
        </p:nvPicPr>
        <p:blipFill>
          <a:blip r:embed="rId1"/>
          <a:stretch/>
        </p:blipFill>
        <p:spPr>
          <a:xfrm>
            <a:off x="1143000" y="1905120"/>
            <a:ext cx="6827760" cy="115236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327672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–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Obdélník 1" descr=""/>
          <p:cNvPicPr/>
          <p:nvPr/>
        </p:nvPicPr>
        <p:blipFill>
          <a:blip r:embed="rId1"/>
          <a:stretch/>
        </p:blipFill>
        <p:spPr>
          <a:xfrm>
            <a:off x="1279440" y="804960"/>
            <a:ext cx="6853320" cy="1152360"/>
          </a:xfrm>
          <a:prstGeom prst="rect">
            <a:avLst/>
          </a:prstGeom>
          <a:ln w="0">
            <a:noFill/>
          </a:ln>
        </p:spPr>
      </p:pic>
      <p:sp>
        <p:nvSpPr>
          <p:cNvPr id="78" name="TextovéPole 3"/>
          <p:cNvSpPr/>
          <p:nvPr/>
        </p:nvSpPr>
        <p:spPr>
          <a:xfrm>
            <a:off x="355680" y="3857760"/>
            <a:ext cx="8059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jvýhodnější je půjčit peníz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amarádovi, přestože je to nejrizikovější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28760" y="171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ěkujeme za pozornos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10" descr="C:\Documents and Settings\skola\Local Settings\Temporary Internet Files\Content.IE5\PUTQN72Y\MCj04241980000[1].wmf"/>
          <p:cNvPicPr/>
          <p:nvPr/>
        </p:nvPicPr>
        <p:blipFill>
          <a:blip r:embed="rId1"/>
          <a:stretch/>
        </p:blipFill>
        <p:spPr>
          <a:xfrm>
            <a:off x="214200" y="5000760"/>
            <a:ext cx="2152800" cy="13809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1" descr="C:\Documents and Settings\skola\Local Settings\Temporary Internet Files\Content.IE5\NT2XGS1P\MCj04242180000[1].wmf"/>
          <p:cNvPicPr/>
          <p:nvPr/>
        </p:nvPicPr>
        <p:blipFill>
          <a:blip r:embed="rId2"/>
          <a:stretch/>
        </p:blipFill>
        <p:spPr>
          <a:xfrm>
            <a:off x="7072200" y="4857840"/>
            <a:ext cx="1860840" cy="156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000"/>
                            </p:stCondLst>
                            <p:childTnLst>
                              <p:par>
                                <p:cTn id="2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Obdélník 1" descr=""/>
          <p:cNvPicPr/>
          <p:nvPr/>
        </p:nvPicPr>
        <p:blipFill>
          <a:blip r:embed="rId1"/>
          <a:stretch/>
        </p:blipFill>
        <p:spPr>
          <a:xfrm>
            <a:off x="1566720" y="231840"/>
            <a:ext cx="5967720" cy="19749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714240" y="2643120"/>
          <a:ext cx="7929720" cy="3457800"/>
        </p:xfrm>
        <a:graphic>
          <a:graphicData uri="http://schemas.openxmlformats.org/drawingml/2006/table">
            <a:tbl>
              <a:tblPr/>
              <a:tblGrid>
                <a:gridCol w="1163880"/>
                <a:gridCol w="1163520"/>
                <a:gridCol w="1289160"/>
                <a:gridCol w="1163520"/>
                <a:gridCol w="1163520"/>
                <a:gridCol w="992160"/>
                <a:gridCol w="993960"/>
              </a:tblGrid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 = 5 % p. a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j</a:t>
                      </a:r>
                      <a:r>
                        <a:rPr b="1" lang="pl-PL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lang="pl-PL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x p/100 x d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en-US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65 0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s-E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5 000 x 5/100 x 360/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 = 3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ú = 8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564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</a:t>
                      </a:r>
                      <a:r>
                        <a:rPr b="1" lang="cs-CZ" sz="20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n </a:t>
                      </a: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 173 2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7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částka z úroků je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250 K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1464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výhody: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3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námý nemusí splati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4640">
                <a:tc gridSpan="2"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ní pojiště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360" marR="93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oční úroky u jednotlivých produktů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514240"/>
            <a:ext cx="3995640" cy="76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79280" y="414324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067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402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  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0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932360" y="414972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4 137,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963,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262,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500"/>
                            </p:stCondLst>
                            <p:childTnLst>
                              <p:par>
                                <p:cTn id="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orovnání ceny zřízení produkt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28760" y="2999880"/>
            <a:ext cx="4039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79280" y="4286160"/>
          <a:ext cx="4608720" cy="1112760"/>
        </p:xfrm>
        <a:graphic>
          <a:graphicData uri="http://schemas.openxmlformats.org/drawingml/2006/table">
            <a:tbl>
              <a:tblPr/>
              <a:tblGrid>
                <a:gridCol w="2301840"/>
                <a:gridCol w="23068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3280" y="3071880"/>
            <a:ext cx="4042080" cy="425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"/>
                            </p:stCondLst>
                            <p:childTnLst>
                              <p:par>
                                <p:cTn id="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platky za vedení produktů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měsíčně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56760" y="264276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932360" y="4292640"/>
          <a:ext cx="4041720" cy="111276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79280" y="4286160"/>
          <a:ext cx="4537080" cy="1112760"/>
        </p:xfrm>
        <a:graphic>
          <a:graphicData uri="http://schemas.openxmlformats.org/drawingml/2006/table">
            <a:tbl>
              <a:tblPr/>
              <a:tblGrid>
                <a:gridCol w="2268720"/>
                <a:gridCol w="226836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Běžné účty GE Money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duk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ěsíční poplate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Activ +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5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 Gol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onto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účet Geni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 K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ěžný korunový úč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uveden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ěsíční zasílání výpisů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28760" y="2642760"/>
            <a:ext cx="40399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43280" y="2642760"/>
            <a:ext cx="40420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179280" y="4221000"/>
          <a:ext cx="4608720" cy="1113120"/>
        </p:xfrm>
        <a:graphic>
          <a:graphicData uri="http://schemas.openxmlformats.org/drawingml/2006/table">
            <a:tbl>
              <a:tblPr/>
              <a:tblGrid>
                <a:gridCol w="2303640"/>
                <a:gridCol w="23050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iz. další li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4932360" y="4221000"/>
          <a:ext cx="4041720" cy="1108080"/>
        </p:xfrm>
        <a:graphic>
          <a:graphicData uri="http://schemas.openxmlformats.org/drawingml/2006/table">
            <a:tbl>
              <a:tblPr/>
              <a:tblGrid>
                <a:gridCol w="2021040"/>
                <a:gridCol w="2020680"/>
              </a:tblGrid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–149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rušení produkt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179280" y="4149720"/>
          <a:ext cx="4572000" cy="1224000"/>
        </p:xfrm>
        <a:graphic>
          <a:graphicData uri="http://schemas.openxmlformats.org/drawingml/2006/table">
            <a:tbl>
              <a:tblPr/>
              <a:tblGrid>
                <a:gridCol w="2287800"/>
                <a:gridCol w="228420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rmínovaný vkl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řic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ěžn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71" name="Rectangle 41"/>
          <p:cNvSpPr/>
          <p:nvPr/>
        </p:nvSpPr>
        <p:spPr>
          <a:xfrm>
            <a:off x="971640" y="3068640"/>
            <a:ext cx="28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GE Money 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Zástupný symbol pro text 4"/>
          <p:cNvSpPr/>
          <p:nvPr/>
        </p:nvSpPr>
        <p:spPr>
          <a:xfrm>
            <a:off x="4859280" y="28526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Česká spořite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4859280" y="4149720"/>
          <a:ext cx="4100400" cy="1224000"/>
        </p:xfrm>
        <a:graphic>
          <a:graphicData uri="http://schemas.openxmlformats.org/drawingml/2006/table">
            <a:tbl>
              <a:tblPr/>
              <a:tblGrid>
                <a:gridCol w="2051280"/>
                <a:gridCol w="2049120"/>
              </a:tblGrid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kladový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0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kladní knížk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0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sobní úč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darm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2000"/>
                            </p:stCondLst>
                            <p:childTnLst>
                              <p:par>
                                <p:cTn id="1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cebf5"/>
            </a:gs>
            <a:gs pos="100000">
              <a:srgbClr val="55261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Závě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jvýhodnější produkt GE Money Bank je: TERMÍNOVANÝ VKLA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Úrok p.</a:t>
            </a:r>
            <a:r>
              <a:rPr b="0" lang="cs-CZ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cs-CZ" sz="2800" spc="-1" strike="noStrike" u="sng">
                <a:solidFill>
                  <a:srgbClr val="ffff00"/>
                </a:solidFill>
                <a:uFillTx/>
                <a:latin typeface="Arial"/>
              </a:rPr>
              <a:t>4 067,25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jvýhodnější produkt České spořitelny je: VKLADOVÝ ÚČ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škeré služby jsou zdarm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Úrok p. a. =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n-US" sz="2800" spc="-1" strike="noStrike" u="sng">
                <a:solidFill>
                  <a:srgbClr val="ffff00"/>
                </a:solidFill>
                <a:uFillTx/>
                <a:latin typeface="Arial"/>
              </a:rPr>
              <a:t>4 137,38 K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000"/>
                            </p:stCondLst>
                            <p:childTnLst>
                              <p:par>
                                <p:cTn id="1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0"/>
                            </p:stCondLst>
                            <p:childTnLst>
                              <p:par>
                                <p:cTn id="18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6000"/>
                            </p:stCondLst>
                            <p:childTnLst>
                              <p:par>
                                <p:cTn id="1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10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000"/>
                            </p:stCondLst>
                            <p:childTnLst>
                              <p:par>
                                <p:cTn id="19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1000" fill="hold"/>
                                        <p:tgtEl>
                                          <p:spTgt spid="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8000"/>
                            </p:stCondLst>
                            <p:childTnLst>
                              <p:par>
                                <p:cTn id="20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03T11:41:13Z</dcterms:created>
  <dc:creator>OA TGM a JŠ</dc:creator>
  <dc:description/>
  <dc:language>en-US</dc:language>
  <cp:lastModifiedBy>OEM</cp:lastModifiedBy>
  <dcterms:modified xsi:type="dcterms:W3CDTF">2008-08-10T21:06:05Z</dcterms:modified>
  <cp:revision>12</cp:revision>
  <dc:subject/>
  <dc:title>Úroky u jednotlivých produktů</dc:title>
</cp:coreProperties>
</file>