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5B9-A186-4F59-B346-8F648E69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92E-D487-44D7-A329-E63CAC19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7EA-F411-4A29-BCB1-CF8C99D3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F5A-0A1A-418A-BB21-5999389E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197-7182-4D44-8283-0C85524F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A44-538C-4904-BFE6-8ED8D4AD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724-50C0-44F7-8FDA-6826FD67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107-262D-4F00-A75E-5D9B7CC1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5E7-9297-45D3-AA25-3C25F42C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5162-7378-4DCA-ABE9-6A12C846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881-2A33-4370-B85F-C58221F3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045-4835-4AC8-9BCE-9D24C992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EED5-0F25-4A69-933E-7B9BD7A64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2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Krejzová Alice, Povolná Martina, Foglová Lu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délník 8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2776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délník 1" descr=""/>
          <p:cNvPicPr/>
          <p:nvPr/>
        </p:nvPicPr>
        <p:blipFill>
          <a:blip r:embed="rId1"/>
          <a:stretch/>
        </p:blipFill>
        <p:spPr>
          <a:xfrm>
            <a:off x="1279440" y="804960"/>
            <a:ext cx="6853320" cy="115236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3"/>
          <p:cNvSpPr/>
          <p:nvPr/>
        </p:nvSpPr>
        <p:spPr>
          <a:xfrm>
            <a:off x="355680" y="3857760"/>
            <a:ext cx="80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jvýhodnější je půjčit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marádovi, přestože je to nejrizikověj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kola\Local Settings\Temporary Internet Files\Content.IE5\PUTQN72Y\MCj04241980000[1].wmf"/>
          <p:cNvPicPr/>
          <p:nvPr/>
        </p:nvPicPr>
        <p:blipFill>
          <a:blip r:embed="rId1"/>
          <a:stretch/>
        </p:blipFill>
        <p:spPr>
          <a:xfrm>
            <a:off x="214200" y="5000760"/>
            <a:ext cx="2152800" cy="138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skola\Local Settings\Temporary Internet Files\Content.IE5\NT2XGS1P\MCj04242180000[1].wmf"/>
          <p:cNvPicPr/>
          <p:nvPr/>
        </p:nvPicPr>
        <p:blipFill>
          <a:blip r:embed="rId2"/>
          <a:stretch/>
        </p:blipFill>
        <p:spPr>
          <a:xfrm>
            <a:off x="7072200" y="4857840"/>
            <a:ext cx="18608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délník 1" descr=""/>
          <p:cNvPicPr/>
          <p:nvPr/>
        </p:nvPicPr>
        <p:blipFill>
          <a:blip r:embed="rId1"/>
          <a:stretch/>
        </p:blipFill>
        <p:spPr>
          <a:xfrm>
            <a:off x="1566720" y="231840"/>
            <a:ext cx="596772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14240" y="2643120"/>
          <a:ext cx="7929720" cy="3457800"/>
        </p:xfrm>
        <a:graphic>
          <a:graphicData uri="http://schemas.openxmlformats.org/drawingml/2006/table">
            <a:tbl>
              <a:tblPr/>
              <a:tblGrid>
                <a:gridCol w="1163880"/>
                <a:gridCol w="1163520"/>
                <a:gridCol w="1289160"/>
                <a:gridCol w="1163520"/>
                <a:gridCol w="1163520"/>
                <a:gridCol w="992160"/>
                <a:gridCol w="993960"/>
              </a:tblGrid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5 % p. 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j</a:t>
                      </a:r>
                      <a:r>
                        <a:rPr b="1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p/100 x d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6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00 x 5/100 x 360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=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8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73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z úroků j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5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ý nemusí spla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ní pojiště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ční úroky u jednotlivých produk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39956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14324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06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932360" y="414972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13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6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ovnání ceny zřízení produk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999880"/>
            <a:ext cx="4039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4286160"/>
          <a:ext cx="4608720" cy="1112760"/>
        </p:xfrm>
        <a:graphic>
          <a:graphicData uri="http://schemas.openxmlformats.org/drawingml/2006/table">
            <a:tbl>
              <a:tblPr/>
              <a:tblGrid>
                <a:gridCol w="2301840"/>
                <a:gridCol w="230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307188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latky za vedení produktů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ěsíčně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79280" y="4286160"/>
          <a:ext cx="4537080" cy="1112760"/>
        </p:xfrm>
        <a:graphic>
          <a:graphicData uri="http://schemas.openxmlformats.org/drawingml/2006/table">
            <a:tbl>
              <a:tblPr/>
              <a:tblGrid>
                <a:gridCol w="2268720"/>
                <a:gridCol w="226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é účty GE Money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sí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účet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korunov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ěsíční zasílání výpi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422100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32360" y="4221000"/>
          <a:ext cx="4041720" cy="110808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1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rušení produ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149720"/>
          <a:ext cx="4572000" cy="1224000"/>
        </p:xfrm>
        <a:graphic>
          <a:graphicData uri="http://schemas.openxmlformats.org/drawingml/2006/table">
            <a:tbl>
              <a:tblPr/>
              <a:tblGrid>
                <a:gridCol w="2287800"/>
                <a:gridCol w="228420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971640" y="3068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text 4"/>
          <p:cNvSpPr/>
          <p:nvPr/>
        </p:nvSpPr>
        <p:spPr>
          <a:xfrm>
            <a:off x="4859280" y="28526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4149720"/>
          <a:ext cx="4100400" cy="1224000"/>
        </p:xfrm>
        <a:graphic>
          <a:graphicData uri="http://schemas.openxmlformats.org/drawingml/2006/table">
            <a:tbl>
              <a:tblPr/>
              <a:tblGrid>
                <a:gridCol w="2051280"/>
                <a:gridCol w="20491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ýhodnější produkt GE Money Bank je: TERMÍNOVANÝ V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rok 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4 067,25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ýhodnější produkt České spořitelny je: VKLADOVÝ Ú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rok p. 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 137,38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1:13Z</dcterms:created>
  <dc:creator>OA TGM a JŠ</dc:creator>
  <dc:description/>
  <dc:language>en-US</dc:language>
  <cp:lastModifiedBy>OEM</cp:lastModifiedBy>
  <dcterms:modified xsi:type="dcterms:W3CDTF">2008-08-10T21:06:05Z</dcterms:modified>
  <cp:revision>12</cp:revision>
  <dc:subject/>
  <dc:title>Úroky u jednotlivých produktů</dc:title>
</cp:coreProperties>
</file>